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618-CC38-4FBF-B2E8-62A43156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0A2-3F6A-4F44-AAAA-FB91FAAD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A65-2CE3-4EE5-B9E5-B2EA7245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96F-C1C7-4F03-BD7F-D2ADF36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5EC-6B1F-4A43-8439-B9C3D65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B61-2137-4B31-B0DF-1B3B326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AC2-B7FC-4381-AAF5-4ABDFC4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2C5-7072-4EB6-B4A0-FBE9DC1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FAC-3039-45A7-AB32-3EDE6C47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60D-4665-41FE-8820-B131677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4F3-4FD4-4715-9C0A-5795FD0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49C-6D0B-414E-9BCD-C6FEC9C1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CE0-7230-47AE-B2F6-DBDEB9CB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                                          ARDEER                                           ARDEER                                      ARDEER  150TH                        ARDEER MILLENNIUM                        ARDEER  RE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1616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EER  REC                            ARDEER  REC.  50TH.                     ARDEER  REC  75TH                                 ARDROSSAN                                ARDROSSAN                                ARDROSS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DROSSAN                              ARDROSSAN  150TH              ARDROSSAN  MILLENNIUM                   BEECHAM  WORKS                                BEITH                                              BE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692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ITH  100TH                                      BEITH  125TH                 BLACKLANDS  &amp;  DISTRICT                       BLACKLANDS                           BLACKLANDS  25TH                              DAL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0520" y="620640"/>
            <a:ext cx="1242720" cy="86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16160" y="54936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28880" y="47628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53240" y="47628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265960" y="333360"/>
            <a:ext cx="9702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0488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1628640"/>
            <a:ext cx="1087200" cy="152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313240" y="2276640"/>
            <a:ext cx="987480" cy="877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753240" y="2276640"/>
            <a:ext cx="987480" cy="88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193240" y="2205000"/>
            <a:ext cx="100620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1800" y="364500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9240" y="3933720"/>
            <a:ext cx="98748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873600" y="378936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313240" y="3789360"/>
            <a:ext cx="10432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75324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704880" y="52293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2289240" y="5300640"/>
            <a:ext cx="10065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728880" y="544500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5168880" y="537372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15772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728880" y="1773360"/>
            <a:ext cx="1017720" cy="131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8265960" y="3716280"/>
            <a:ext cx="976320" cy="108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8193240" y="5373720"/>
            <a:ext cx="1130040" cy="110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240160" y="692280"/>
            <a:ext cx="10479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5:54:34Z</dcterms:created>
  <dc:creator>JOHN YOUNG</dc:creator>
  <dc:description/>
  <dc:language>en-US</dc:language>
  <cp:lastModifiedBy>JY</cp:lastModifiedBy>
  <cp:lastPrinted>1999-12-13T15:13:31Z</cp:lastPrinted>
  <dcterms:modified xsi:type="dcterms:W3CDTF">2007-04-04T18:38:31Z</dcterms:modified>
  <cp:revision>25</cp:revision>
  <dc:subject/>
  <dc:title>No Slide Title</dc:title>
</cp:coreProperties>
</file>